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71A6A-9883-40F8-88C1-B94D13B2F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C0360-4DB0-4375-ADFD-9EDFF2EE1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8A69D-F1E1-4404-B6CE-92DA2E06E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5B397-288B-4F66-BCD7-5236E3C09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E0D6-7845-4F38-B2FA-807C0FCE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AB8B-C772-4798-B54A-4958B3F20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5177D-EE47-4659-ADCE-2AE9DAF38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C655B-5A27-48B9-B599-17B025A61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21E37-71C2-4CFC-8927-8C562BE5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DC34-637E-4148-B389-3CD8EAD1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8D3F6-3C76-4455-810D-CD69D728B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309E6-1374-43DC-8C51-402CB072C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0487-7FC5-44D9-9834-B76F80E6F3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8-29T10:09:32Z</dcterms:modified>
  <cp:revision>43</cp:revision>
  <dc:subject/>
  <dc:title>SALARIUL</dc:title>
</cp:coreProperties>
</file>